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5560" cy="39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2"/>
          </p:nvPr>
        </p:nvSpPr>
        <p:spPr>
          <a:xfrm>
            <a:off x="427788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7B9184-E351-462A-B8C2-C7571989E0F0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B78548-F629-469F-A8D1-EFC712F8BD57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1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D37B0B-706C-4F20-BEFA-6C6AC82524A1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C5DDB6-19FC-44CF-BD30-A6B42825B9A4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9" name="Text Box 4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F7F089-6C6B-495A-BF6F-023315B77C05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1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1B9D7A-08D7-4FD7-8D53-E2937B75D8A9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51D167-574F-4F91-9C7A-90489A874C58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4" name="Text Box 4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F82C78-EF91-4BB0-A1AE-17DC3D80E57D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1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8975BD-C864-4B31-AF82-89F2A699BD60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2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0E7599-59B4-4611-B90D-840F4F4FC604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9" name="Text Box 4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77DDAD-5D4A-4D5E-ABF3-3D3A41111C87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1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CA25B7-E15F-44F8-99C5-BCBA464F4131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DD97FA-C246-4B1B-88DF-B5615BB0D415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4" name="Text Box 4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C82389-E484-4CF3-83FD-47130D4A3D9A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1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2DADAD-88D8-48F8-8035-5D09C163C3A7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F0FDC6-F298-44A8-B743-59C5F3804CE8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9" name="Text Box 4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29ACFD-A44C-40B0-BE05-05F42DC0F109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FAE2D7-8C95-4DC7-9ED3-1899C7AF37A1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4F830A-D513-416B-8E68-081CA06E581B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4" name="Text Box 4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1F203-772F-4D21-A62E-15050B4B5B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2920" y="4053960"/>
            <a:ext cx="906156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14270-EB70-43A3-A757-DA7A67A72B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2920" y="4053960"/>
            <a:ext cx="442188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6200" y="4053960"/>
            <a:ext cx="442188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E9697-76EE-45C9-989F-ACB6294107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744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66520" y="1768320"/>
            <a:ext cx="291744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0480" y="1768320"/>
            <a:ext cx="291744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2920" y="4053960"/>
            <a:ext cx="291744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66520" y="4053960"/>
            <a:ext cx="291744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0480" y="4053960"/>
            <a:ext cx="291744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BCCD9-6E61-4251-9C70-81FA78AF88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1560" cy="43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080ED-198F-4A80-9239-208A0E56FF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437544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16C63-7A48-405E-A64A-3D91D13AFE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37544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37544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209F7-E4CF-4CA8-9ADD-0FD42913C9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E6560-843B-4DD2-BF43-1142260EDB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31DD2-D81E-432F-8E34-299E64C281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37544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2920" y="4053960"/>
            <a:ext cx="442188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75317-1AE0-470A-AE65-B279621994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37544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46200" y="4053960"/>
            <a:ext cx="442188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089F6-2ABD-4EB3-9AA9-A7B7D20B8F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2920" y="4053960"/>
            <a:ext cx="906156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3AEBC-54F1-4F15-9BC4-13A250443B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1560" cy="437544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27720" y="688644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0BE29C6-A943-4F60-AD27-ED281C10236C}" type="slidenum">
              <a:rPr b="0" lang="pt-B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2"/>
          <a:stretch/>
        </p:blipFill>
        <p:spPr>
          <a:xfrm>
            <a:off x="5575320" y="0"/>
            <a:ext cx="4503600" cy="750960"/>
          </a:xfrm>
          <a:prstGeom prst="rect">
            <a:avLst/>
          </a:prstGeom>
          <a:ln w="0">
            <a:noFill/>
          </a:ln>
        </p:spPr>
      </p:pic>
      <p:sp>
        <p:nvSpPr>
          <p:cNvPr id="6" name="Line 7"/>
          <p:cNvSpPr/>
          <p:nvPr/>
        </p:nvSpPr>
        <p:spPr>
          <a:xfrm flipH="1">
            <a:off x="-9360" y="750960"/>
            <a:ext cx="10099440" cy="1440"/>
          </a:xfrm>
          <a:prstGeom prst="line">
            <a:avLst/>
          </a:prstGeom>
          <a:ln cap="sq" w="28800">
            <a:solidFill>
              <a:srgbClr val="579d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0" y="0"/>
            <a:ext cx="1008072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-11160" y="1708200"/>
            <a:ext cx="1009188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5520" bIns="45000" anchor="t">
            <a:noAutofit/>
          </a:bodyPr>
          <a:p>
            <a:pPr algn="ctr">
              <a:lnSpc>
                <a:spcPct val="14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Ged  –  NTE-Reg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4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ema 22-  A arte de estudar e apren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4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no letivo: 20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2579760" y="0"/>
            <a:ext cx="4548240" cy="1440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2160720" y="3743280"/>
            <a:ext cx="547200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2"/>
          <p:cNvSpPr/>
          <p:nvPr/>
        </p:nvSpPr>
        <p:spPr>
          <a:xfrm>
            <a:off x="50328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2"/>
          <p:cNvSpPr/>
          <p:nvPr/>
        </p:nvSpPr>
        <p:spPr>
          <a:xfrm>
            <a:off x="0" y="1779480"/>
            <a:ext cx="100918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5520" bIns="45000" anchor="t">
            <a:noAutofit/>
          </a:bodyPr>
          <a:p>
            <a:pPr algn="ctr">
              <a:lnSpc>
                <a:spcPct val="14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pt-BR" sz="2800" spc="-1" strike="noStrike">
                <a:solidFill>
                  <a:srgbClr val="009900"/>
                </a:solidFill>
                <a:latin typeface="Arial"/>
              </a:rPr>
              <a:t>Grupo 1 – Não se aprende sem estud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4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5" descr="d:\Meus documentos\Minhas imagens\GED\estudar-para-prova.jpg"/>
          <p:cNvPicPr/>
          <p:nvPr/>
        </p:nvPicPr>
        <p:blipFill>
          <a:blip r:embed="rId1"/>
          <a:stretch/>
        </p:blipFill>
        <p:spPr>
          <a:xfrm>
            <a:off x="2968560" y="2701800"/>
            <a:ext cx="4429080" cy="375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"/>
          <p:cNvSpPr/>
          <p:nvPr/>
        </p:nvSpPr>
        <p:spPr>
          <a:xfrm>
            <a:off x="682560" y="1255680"/>
            <a:ext cx="8253360" cy="45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552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3" descr="d:\Meus documentos\Minhas imagens\GED\motivacao-forca-de-vendas-1024x1024.jpg"/>
          <p:cNvPicPr/>
          <p:nvPr/>
        </p:nvPicPr>
        <p:blipFill>
          <a:blip r:embed="rId1"/>
          <a:stretch/>
        </p:blipFill>
        <p:spPr>
          <a:xfrm>
            <a:off x="2754360" y="3851280"/>
            <a:ext cx="5786280" cy="30002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2"/>
          <p:cNvSpPr/>
          <p:nvPr/>
        </p:nvSpPr>
        <p:spPr>
          <a:xfrm>
            <a:off x="682560" y="1279440"/>
            <a:ext cx="871560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5520" bIns="45000" anchor="t">
            <a:noAutofit/>
          </a:bodyPr>
          <a:p>
            <a:pPr>
              <a:lnSpc>
                <a:spcPct val="141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studar depende de motivação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1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studo é trabalho, dedicação, esforço, renúnc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1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"/>
          <p:cNvSpPr/>
          <p:nvPr/>
        </p:nvSpPr>
        <p:spPr>
          <a:xfrm>
            <a:off x="825480" y="1255680"/>
            <a:ext cx="7453440" cy="54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552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539640" y="851040"/>
            <a:ext cx="8501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5520" bIns="45000" anchor="t">
            <a:noAutofit/>
          </a:bodyPr>
          <a:p>
            <a:pPr>
              <a:lnSpc>
                <a:spcPct val="141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Na escola e na universidade, estudar é o qu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enos se faz gastando-se o temp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inteiro com aulas e prov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06.01.2012_Site_Dentro_Alunos em Sala de Aula- Créd Ademar Filho"/>
          <p:cNvPicPr/>
          <p:nvPr/>
        </p:nvPicPr>
        <p:blipFill>
          <a:blip r:embed="rId1"/>
          <a:stretch/>
        </p:blipFill>
        <p:spPr>
          <a:xfrm>
            <a:off x="1611360" y="3494160"/>
            <a:ext cx="6715080" cy="30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"/>
          <p:cNvSpPr/>
          <p:nvPr/>
        </p:nvSpPr>
        <p:spPr>
          <a:xfrm>
            <a:off x="2100240" y="1255680"/>
            <a:ext cx="18108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552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4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682560" y="922320"/>
            <a:ext cx="850104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5520" bIns="45000" anchor="t">
            <a:noAutofit/>
          </a:bodyPr>
          <a:p>
            <a:pPr>
              <a:lnSpc>
                <a:spcPct val="141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scola integral: estudar não é o senti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entral, mas ter aul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6" descr="http://www.odiariodaregiao.com/wp-content/uploads/2011/11/tempo-integral.jpg"/>
          <p:cNvPicPr/>
          <p:nvPr/>
        </p:nvPicPr>
        <p:blipFill>
          <a:blip r:embed="rId1"/>
          <a:stretch/>
        </p:blipFill>
        <p:spPr>
          <a:xfrm>
            <a:off x="2754360" y="3279600"/>
            <a:ext cx="4071960" cy="28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325440" y="779400"/>
            <a:ext cx="9501120" cy="25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5520" bIns="45000" anchor="t">
            <a:noAutofit/>
          </a:bodyPr>
          <a:p>
            <a:pPr>
              <a:lnSpc>
                <a:spcPct val="14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- Au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396720" y="922320"/>
            <a:ext cx="942984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5520" bIns="45000" anchor="t">
            <a:noAutofit/>
          </a:bodyPr>
          <a:p>
            <a:pPr>
              <a:lnSpc>
                <a:spcPct val="141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ula é procedimento auxiliar da aprendizag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Não leva necessariamente à aprendizag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rucial é aumentar o estudo. Não as aul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5" descr="http://www.blogizazilli.com/wp-content/uploads/2012/05/web451.jpg"/>
          <p:cNvPicPr/>
          <p:nvPr/>
        </p:nvPicPr>
        <p:blipFill>
          <a:blip r:embed="rId1"/>
          <a:stretch/>
        </p:blipFill>
        <p:spPr>
          <a:xfrm>
            <a:off x="968400" y="3208320"/>
            <a:ext cx="7620120" cy="3851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7T11:54:33Z</dcterms:created>
  <dc:creator/>
  <dc:description/>
  <cp:keywords/>
  <dc:language>en-US</dc:language>
  <cp:lastModifiedBy>Proprietario</cp:lastModifiedBy>
  <dcterms:modified xsi:type="dcterms:W3CDTF">2015-03-27T01:11:38Z</dcterms:modified>
  <cp:revision>20</cp:revision>
  <dc:subject/>
  <dc:title>Slide 1</dc:title>
</cp:coreProperties>
</file>